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666-2508-458F-B17F-AB806926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75A4-C114-4DB9-8962-464C546B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02B5-4475-40EE-9AF4-0FA6E4F7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772-993F-46E4-9107-1097A932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26C-D861-42AE-ABA7-850B5FA8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D10-5E0C-4C0D-B4EB-4C94714D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C9F-E490-4DF3-BAA7-E48EADBF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888-5E05-4972-97C0-4D35CCB8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6E5-A461-4C54-918C-D2EF3AB9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B9E3-A649-442D-B340-C7C135A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D02-9AAD-4542-A37E-74AD1DB7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935-F10C-4656-8716-FAE20598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C5B6-DE42-4920-AE57-D34A635E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 val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ada 10-15 dec.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CA NATION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628640"/>
          <a:ext cx="820728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570400"/>
                <a:gridCol w="290016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z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ar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ra sterl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– curs val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628640"/>
          <a:ext cx="8196120" cy="45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819612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03:49Z</dcterms:created>
  <dc:creator>AS</dc:creator>
  <dc:description/>
  <dc:language>en-US</dc:language>
  <cp:lastModifiedBy>AS</cp:lastModifiedBy>
  <dcterms:modified xsi:type="dcterms:W3CDTF">2010-01-05T20:59:12Z</dcterms:modified>
  <cp:revision>5</cp:revision>
  <dc:subject/>
  <dc:title>Curs valutar</dc:title>
</cp:coreProperties>
</file>